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934200" y="6566040"/>
            <a:ext cx="2307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10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05648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T - Introduction - page </a:t>
            </a:r>
            <a:fld id="{45FEC9C9-E6B9-43AE-AF3C-A42EF4ACFA27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173160" y="233280"/>
            <a:ext cx="347652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058760" y="5087880"/>
            <a:ext cx="7313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0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406152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T - Introduction - page </a:t>
            </a:r>
            <a:fld id="{660DC999-06FC-4CFF-8EC4-28675B5D7DE7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9694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2"/>
          <a:stretch/>
        </p:blipFill>
        <p:spPr>
          <a:xfrm>
            <a:off x="173160" y="216000"/>
            <a:ext cx="3476520" cy="48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1047600" y="1752480"/>
            <a:ext cx="6553440" cy="27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536b"/>
                </a:solidFill>
                <a:latin typeface="Arial Narrow"/>
              </a:rPr>
              <a:t>PSP Instructor Training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536b"/>
                </a:solidFill>
                <a:latin typeface="Arial Narrow"/>
              </a:rPr>
              <a:t>Lecture: PSP1 Data Presentation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s Injected in Desig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ive: trend analysi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y increase when reviews are added (the golf score effect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rcRect l="1380" t="20892" r="1861" b="12174"/>
          <a:stretch/>
        </p:blipFill>
        <p:spPr>
          <a:xfrm>
            <a:off x="571680" y="938160"/>
            <a:ext cx="813888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s Injected in Cod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ive: trend analysi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y increase when reviews are added (the golf score effect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uld decrease over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rcRect l="1380" t="18148" r="1501" b="12122"/>
          <a:stretch/>
        </p:blipFill>
        <p:spPr>
          <a:xfrm>
            <a:off x="571680" y="938160"/>
            <a:ext cx="813888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s Found in Compil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ive: reduce as a percentage of total def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itial declin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ue to increased awaren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re care in early pha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uld decrease over time as more quality activities are introduced in early process step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dicator of the effectiveness of design and code review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rcRect l="1446" t="20965" r="1759" b="12190"/>
          <a:stretch/>
        </p:blipFill>
        <p:spPr>
          <a:xfrm>
            <a:off x="571680" y="938160"/>
            <a:ext cx="813888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s Found in Tes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ive: reduce as a percentage of total def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y see a smaller early decline than compile, improvements here generally come more slowly and require increased attention to desig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uld decrease over time as more quality activities are introduced in early process step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"/>
          <p:cNvPicPr/>
          <p:nvPr/>
        </p:nvPicPr>
        <p:blipFill>
          <a:blip r:embed="rId1"/>
          <a:srcRect l="1638" t="20909" r="1724" b="12174"/>
          <a:stretch/>
        </p:blipFill>
        <p:spPr>
          <a:xfrm>
            <a:off x="571680" y="938160"/>
            <a:ext cx="813888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mpile Versus Test Defec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ive: trend analysi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ts of compile defects often implies lots of test def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y students will see this relationshi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data may average out the effec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2"/>
          <p:cNvGraphicFramePr/>
          <p:nvPr/>
        </p:nvGraphicFramePr>
        <p:xfrm>
          <a:off x="4997520" y="2833560"/>
          <a:ext cx="3713040" cy="355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97520" y="2833560"/>
                    <a:ext cx="3713040" cy="3556080"/>
                  </a:xfrm>
                  <a:prstGeom prst="rect">
                    <a:avLst/>
                  </a:prstGeom>
                  <a:ln w="9360">
                    <a:solidFill>
                      <a:srgbClr val="333333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5" name="Object 3"/>
          <p:cNvGraphicFramePr/>
          <p:nvPr/>
        </p:nvGraphicFramePr>
        <p:xfrm>
          <a:off x="571680" y="938160"/>
          <a:ext cx="4003560" cy="3544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680" y="938160"/>
                    <a:ext cx="400356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3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PSP1 the students lear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xy-based estimating and statistical techniques of the PROBE metho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flexible estimating and planning framework driven by a size estimate and historical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s learn that accurate plans put them in control of their commitm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st students find PROBE hard to learn, but effective and easy to use, once master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lecture will help you to understand the data analysis at the PSP1 level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2224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eneral Guidelin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301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data helps to convince students that using the PSP methods will help them to do better work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data can be used as a benchmark to help show what is possib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y to present class data every day if possible, but make sure there is enough data so that an individual’s performance is not visib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e class, give the students copies of a final set of the overall class performan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1 Data Present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resent only composite data (unless you want to use your personal data as an example)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Respect the privacy of student data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data presentation include those in PSP0, plu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Size vs. Development tim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otal defect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defects injected in design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defects injected in coding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Defects found in compil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Defects found in test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ompile versus test defect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ize vs. Development Tim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bjective: proving the point that larger programs take more tim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lass data shows trend but usually doesn’t have a good correlati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dividual data may show a good correlati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s early as PSP1 start talking about selecting size measures that correlate well with development tim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DOCUME~1\snurhan\LOCALS~1\Temp\msohtml1\01\clip_image001.gif"/>
          <p:cNvPicPr/>
          <p:nvPr/>
        </p:nvPicPr>
        <p:blipFill>
          <a:blip r:embed="rId1"/>
          <a:stretch/>
        </p:blipFill>
        <p:spPr>
          <a:xfrm>
            <a:off x="571680" y="938160"/>
            <a:ext cx="8138880" cy="54514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3726000" y="1460520"/>
            <a:ext cx="485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t the class level there is usually not a good correlation, it’s more like a tren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74600" indent="-174600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dividual data may have a good correla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otal Defec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ive: reduce defects inject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de individual vari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ikely see an initial decline in the number of injected defects due to the increased awareness of defects being injected and a resulting increase in care taken in the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erybody injects a lot of defects; this is not a reflection on the individua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"/>
          <p:cNvPicPr/>
          <p:nvPr/>
        </p:nvPicPr>
        <p:blipFill>
          <a:blip r:embed="rId1"/>
          <a:srcRect l="1411" t="20945" r="1775" b="12158"/>
          <a:stretch/>
        </p:blipFill>
        <p:spPr>
          <a:xfrm>
            <a:off x="571680" y="938160"/>
            <a:ext cx="8138880" cy="54388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4086360" y="1460520"/>
            <a:ext cx="485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High defect densities (prog 1 &amp; 4) can occur on small programs that have more defects than normal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10-25T14:04:56Z</cp:lastPrinted>
  <dcterms:modified xsi:type="dcterms:W3CDTF">2018-09-06T01:08:14Z</dcterms:modified>
  <cp:revision>209</cp:revision>
  <dc:subject/>
  <dc:title>No Slide Title</dc:title>
</cp:coreProperties>
</file>